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557-BB67-4984-88FD-33BCBB1F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498-A582-4FE6-8995-A2A7214C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447-1AA1-4A83-9020-D4C30EFC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B5E-5812-4F51-87B8-2D36D594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743-1489-4801-AD0F-89A9172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2C0-1622-4314-86A9-3196095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B6D-460C-42B0-95C6-E1E0AAE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F15-CD30-4728-B5B5-CFF35966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ED9-81AE-481A-9465-44D84BD7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9FB-ECB7-45D6-9C76-217DE19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861-1292-4E12-BC00-71508B0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4D2-3191-4134-8BA4-78820CA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6326-FD57-402B-95A6-7FAA06D0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3149280"/>
            <a:ext cx="8440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20124d"/>
                </a:solidFill>
                <a:latin typeface="trebuchet ms"/>
              </a:rPr>
              <a:t>Desertificat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rebuchet ms"/>
              </a:rPr>
              <a:t>What is desertification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36360"/>
            <a:ext cx="9664560" cy="62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ification is degradation of drylands ecosystems by climate variations and human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lands occupy 41% of the Earth's lan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lands are areas that are characterized by a lack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- scrublands, grasslands, and sava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20% of drylands are already affected by desertification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876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876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rebuchet ms"/>
              </a:rPr>
              <a:t>Why Should We Car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ertification cause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wers food and fresh water sources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ss of water purification and climate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ss of cultural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How can we cause i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9760" y="1820880"/>
            <a:ext cx="966312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d966"/>
                </a:solidFill>
                <a:latin typeface="Arial"/>
              </a:rPr>
              <a:t>Desertification can be caused by humans throug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d966"/>
                </a:solidFill>
                <a:latin typeface="Arial"/>
              </a:rPr>
              <a:t>the following: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verfarming of the la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Removal of vege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Poor irrig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ver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1c232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w can it be prevente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Desertification can be prevented by the following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Integrating land and water manage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Protecting veget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ixing farming and grazing method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n it be reverse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920" y="1015920"/>
            <a:ext cx="966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ertification can be reversed and the land restored through the following method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2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2cc"/>
                </a:solidFill>
                <a:latin typeface="Arial"/>
              </a:rPr>
              <a:t>Establishing seed bank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2cc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2cc"/>
                </a:solidFill>
                <a:latin typeface="Arial"/>
              </a:rPr>
              <a:t>A place where seeds are stored for long term preservation or short term farming.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2cc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rracing to counter ero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nriching the soil with nutr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ing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YouTube Video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www.youtube.com/watch?v=ivcMMPzmKk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ientific Facts on Desertification.”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reen Fact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N.p., 2006. Web. 10 Feb. 2011. &lt;http://www.greenfacts.org/‌en/‌desertification/‌index.htm&gt;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Causes Desertification?”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a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N.p., 2006. Web. 10 Feb. 2011. &lt;http:///www.oasisglobal.net/‌what_cause.htm&gt;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